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843-DDBB-4CDE-B8AA-205CE9CB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2288-30DE-4C8E-8D8E-40C06605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1D8-4AC5-440F-87A1-86B1955B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650-9B3B-4625-A66A-AADA3D22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5EE5-57B7-4FC0-8ED8-A421DD6E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12EA-CBEC-4068-8B5D-0D921E7B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4D1D-6867-46BB-BF27-A83BECB2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631-0162-4879-BEB0-B4ECEA04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BDC-61BF-4B45-B519-9E9CFCC7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5323-91CD-46FB-8B3B-47BC9804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F1A-B0DC-47C1-9F42-E0BC6BD1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174-C27C-40CF-A481-A93F2BFC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5BC5-836D-4424-B486-220CBBF5B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306864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2565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Les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203640" y="3573360"/>
            <a:ext cx="2663640" cy="2521080"/>
            <a:chOff x="3203640" y="3573360"/>
            <a:chExt cx="2663640" cy="2521080"/>
          </a:xfrm>
        </p:grpSpPr>
        <p:sp>
          <p:nvSpPr>
            <p:cNvPr id="49" name=""/>
            <p:cNvSpPr/>
            <p:nvPr/>
          </p:nvSpPr>
          <p:spPr>
            <a:xfrm>
              <a:off x="3203640" y="3573360"/>
              <a:ext cx="2663640" cy="2521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35280" y="5373720"/>
              <a:ext cx="5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211640" y="4222800"/>
              <a:ext cx="64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60720" y="5373720"/>
              <a:ext cx="5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51280" y="4941720"/>
              <a:ext cx="136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00360" y="4941720"/>
              <a:ext cx="0" cy="1152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rt from am/pm to 24 hours and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773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27664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 previous work 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92720" y="220500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end of this lesson you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92720" y="335772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 Convert 12hr to 24hr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378936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Convert 24 hr to 12hr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2720" y="429264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Count Method to find time inter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5589720"/>
            <a:ext cx="1081080" cy="1027080"/>
            <a:chOff x="0" y="5589720"/>
            <a:chExt cx="1081080" cy="1027080"/>
          </a:xfrm>
        </p:grpSpPr>
        <p:sp>
          <p:nvSpPr>
            <p:cNvPr id="70" name=""/>
            <p:cNvSpPr/>
            <p:nvPr/>
          </p:nvSpPr>
          <p:spPr>
            <a:xfrm>
              <a:off x="0" y="5589720"/>
              <a:ext cx="1081080" cy="100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4600" y="6309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9680" y="584964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3200" y="6309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2800" y="613764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6320" y="613764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rt from am/pm to 24 hours and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1916280"/>
            <a:ext cx="683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  <a:ea typeface="Arial"/>
              </a:rPr>
              <a:t>There are two major ways to show the time:   </a:t>
            </a:r>
            <a:r>
              <a:rPr b="0" lang="en-US" sz="2400" spc="-1" strike="noStrike">
                <a:solidFill>
                  <a:srgbClr val="5b0091"/>
                </a:solidFill>
                <a:latin typeface="Comic Sans MS"/>
                <a:ea typeface="Arial"/>
              </a:rPr>
              <a:t>"AM/PM"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  <a:ea typeface="Arial"/>
              </a:rPr>
              <a:t> or </a:t>
            </a:r>
            <a:r>
              <a:rPr b="0" lang="en-US" sz="2400" spc="-1" strike="noStrike">
                <a:solidFill>
                  <a:srgbClr val="5b0091"/>
                </a:solidFill>
                <a:latin typeface="Comic Sans MS"/>
                <a:ea typeface="Arial"/>
              </a:rPr>
              <a:t>"24 Hour Clock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81000" y="2556000"/>
            <a:ext cx="74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With t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4 Hour Clo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the time is shown as how many hours and minutes since midnight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3549600"/>
            <a:ext cx="70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091"/>
                </a:solidFill>
                <a:latin typeface="Comic Sans MS"/>
                <a:ea typeface="Arial"/>
              </a:rPr>
              <a:t>AM/PM</a:t>
            </a:r>
            <a:r>
              <a:rPr b="0" lang="en-US" sz="2400" spc="-1" strike="noStrike">
                <a:solidFill>
                  <a:srgbClr val="5b0091"/>
                </a:solidFill>
                <a:latin typeface="Comic Sans MS"/>
                <a:ea typeface="Arial"/>
              </a:rPr>
              <a:t> the day is split into the 12 Hours running from Midnight to No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0091"/>
                </a:solidFill>
                <a:latin typeface="Comic Sans MS"/>
                <a:ea typeface="Arial"/>
              </a:rPr>
              <a:t>(the AM ho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66880" y="4768920"/>
            <a:ext cx="78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other 12 Hours running from Noon to Midn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the PM hou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5589720"/>
            <a:ext cx="1081080" cy="1027080"/>
            <a:chOff x="0" y="5589720"/>
            <a:chExt cx="1081080" cy="1027080"/>
          </a:xfrm>
        </p:grpSpPr>
        <p:sp>
          <p:nvSpPr>
            <p:cNvPr id="88" name=""/>
            <p:cNvSpPr/>
            <p:nvPr/>
          </p:nvSpPr>
          <p:spPr>
            <a:xfrm>
              <a:off x="0" y="5589720"/>
              <a:ext cx="1081080" cy="100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4600" y="6309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9680" y="584964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3200" y="6309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2800" y="613764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6320" y="613764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rt from am/pm to 24 hours and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97760" y="1700280"/>
            <a:ext cx="390096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0091"/>
                </a:solidFill>
                <a:uFillTx/>
                <a:latin typeface="Comic Sans MS"/>
                <a:ea typeface="Arial"/>
              </a:rPr>
              <a:t>What Day is Midn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220500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idnight has another problem - there is nothing to tell you "is this the beginning or ending of the day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2997360"/>
            <a:ext cx="82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magine you are told your friends are leaving on holiday at "midnight" on 12th March, what day should you arrive to say goodby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076640"/>
            <a:ext cx="819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o you get there on the 11th (assuming they leave at the very start of the 12th), or the 12th (assuming they leave at the end of the 12th)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5157720"/>
            <a:ext cx="815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t is better to 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  <a:ea typeface="Arial"/>
              </a:rPr>
              <a:t>11:59 PM or 12:01 AM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  <a:ea typeface="Arial"/>
              </a:rPr>
              <a:t>23:59 or 0:01 (24-Hour Cloc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which the railroads, airlines and military actually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5589720"/>
            <a:ext cx="1081080" cy="1027080"/>
            <a:chOff x="0" y="5589720"/>
            <a:chExt cx="1081080" cy="1027080"/>
          </a:xfrm>
        </p:grpSpPr>
        <p:sp>
          <p:nvSpPr>
            <p:cNvPr id="107" name=""/>
            <p:cNvSpPr/>
            <p:nvPr/>
          </p:nvSpPr>
          <p:spPr>
            <a:xfrm>
              <a:off x="0" y="5589720"/>
              <a:ext cx="1081080" cy="100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4600" y="6309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9680" y="584964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200" y="6309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2800" y="613764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6320" y="613764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5"/>
          <p:cNvSpPr/>
          <p:nvPr/>
        </p:nvSpPr>
        <p:spPr>
          <a:xfrm>
            <a:off x="570240" y="35100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Comic Sans MS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43080" y="404640"/>
            <a:ext cx="8800920" cy="3089160"/>
            <a:chOff x="343080" y="404640"/>
            <a:chExt cx="8800920" cy="3089160"/>
          </a:xfrm>
        </p:grpSpPr>
        <p:sp>
          <p:nvSpPr>
            <p:cNvPr id="115" name=""/>
            <p:cNvSpPr/>
            <p:nvPr/>
          </p:nvSpPr>
          <p:spPr>
            <a:xfrm>
              <a:off x="8420040" y="291132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23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96080" y="291132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22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91560" y="291132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21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05760" y="2911320"/>
              <a:ext cx="68580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2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680" y="2911320"/>
              <a:ext cx="66708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9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34160" y="291132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8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52960" y="2911320"/>
              <a:ext cx="78120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7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48080" y="2911320"/>
              <a:ext cx="70488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6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85960" y="2911320"/>
              <a:ext cx="76212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5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24200" y="2911320"/>
              <a:ext cx="76176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4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280" y="2911320"/>
              <a:ext cx="62892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3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080" y="2911320"/>
              <a:ext cx="95220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2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20040" y="232884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1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96080" y="232884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0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91560" y="232884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9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05760" y="2328840"/>
              <a:ext cx="6858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8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38680" y="2328840"/>
              <a:ext cx="66708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7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34160" y="232884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6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52960" y="2328840"/>
              <a:ext cx="7812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5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48080" y="2328840"/>
              <a:ext cx="70488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4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85960" y="2328840"/>
              <a:ext cx="7621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3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24200" y="2328840"/>
              <a:ext cx="7617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2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95280" y="2328840"/>
              <a:ext cx="6289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3080" y="2328840"/>
              <a:ext cx="9522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midda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0040" y="1746000"/>
              <a:ext cx="72396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1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96080" y="1746000"/>
              <a:ext cx="72396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91560" y="1746000"/>
              <a:ext cx="70452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9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05760" y="1746000"/>
              <a:ext cx="68580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8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38680" y="1746000"/>
              <a:ext cx="66708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7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34160" y="1746000"/>
              <a:ext cx="70452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6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52960" y="1746000"/>
              <a:ext cx="78120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5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48080" y="1746000"/>
              <a:ext cx="70488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4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85960" y="1746000"/>
              <a:ext cx="76212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3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24200" y="1746000"/>
              <a:ext cx="76176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2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95280" y="1746000"/>
              <a:ext cx="62892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1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080" y="1746000"/>
              <a:ext cx="95220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20040" y="116352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1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96080" y="116352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0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1560" y="116352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9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05760" y="1163520"/>
              <a:ext cx="6858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8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38680" y="1163520"/>
              <a:ext cx="66708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7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34160" y="116352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6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52960" y="1163520"/>
              <a:ext cx="7812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5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48080" y="1163520"/>
              <a:ext cx="70488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4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85960" y="1163520"/>
              <a:ext cx="7621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3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24200" y="1163520"/>
              <a:ext cx="7617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2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5280" y="1163520"/>
              <a:ext cx="6289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3080" y="1163520"/>
              <a:ext cx="9522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Comic Sans MS"/>
                </a:rPr>
                <a:t>midn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3080" y="1163520"/>
              <a:ext cx="8800920" cy="0"/>
            </a:xfrm>
            <a:prstGeom prst="line">
              <a:avLst/>
            </a:prstGeom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3080" y="3493800"/>
              <a:ext cx="8800920" cy="0"/>
            </a:xfrm>
            <a:prstGeom prst="line">
              <a:avLst/>
            </a:prstGeom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3080" y="1163520"/>
              <a:ext cx="0" cy="2330280"/>
            </a:xfrm>
            <a:prstGeom prst="line">
              <a:avLst/>
            </a:prstGeom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95280" y="116352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24200" y="116352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85960" y="116352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48080" y="116352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52960" y="116352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34160" y="116352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38680" y="116352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05760" y="116352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91560" y="116352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96080" y="116352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20040" y="116352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144000" y="1163520"/>
              <a:ext cx="0" cy="2330280"/>
            </a:xfrm>
            <a:prstGeom prst="line">
              <a:avLst/>
            </a:prstGeom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3080" y="1746000"/>
              <a:ext cx="88009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3080" y="2328840"/>
              <a:ext cx="88009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3080" y="2911320"/>
              <a:ext cx="88009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57480" y="404640"/>
              <a:ext cx="3657600" cy="45972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12/24 Hour Cl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49200" y="3692520"/>
            <a:ext cx="87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Comic Sans MS"/>
                <a:ea typeface="Arial"/>
              </a:rPr>
              <a:t>To go from 12 hour clock to 24 hour clock just</a:t>
            </a:r>
            <a:r>
              <a:rPr b="0" lang="en-US" sz="2000" spc="-1" strike="noStrike">
                <a:solidFill>
                  <a:srgbClr val="080808"/>
                </a:solidFill>
                <a:latin typeface="Comic Sans MS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80808"/>
                </a:solidFill>
                <a:uFillTx/>
                <a:latin typeface="Comic Sans MS"/>
                <a:ea typeface="Arial"/>
              </a:rPr>
              <a:t>add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000" spc="-1" strike="noStrike">
                <a:solidFill>
                  <a:srgbClr val="99cc00"/>
                </a:solidFill>
                <a:latin typeface="Comic Sans MS"/>
                <a:ea typeface="Arial"/>
              </a:rPr>
              <a:t>12 to the pm hou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57120" y="4183200"/>
            <a:ext cx="7519680" cy="2010240"/>
            <a:chOff x="357120" y="4183200"/>
            <a:chExt cx="7519680" cy="2010240"/>
          </a:xfrm>
        </p:grpSpPr>
        <p:sp>
          <p:nvSpPr>
            <p:cNvPr id="184" name=""/>
            <p:cNvSpPr/>
            <p:nvPr/>
          </p:nvSpPr>
          <p:spPr>
            <a:xfrm>
              <a:off x="357120" y="4183200"/>
              <a:ext cx="16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Ex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87000" y="4240440"/>
              <a:ext cx="2228040" cy="429120"/>
            </a:xfrm>
            <a:prstGeom prst="rect">
              <a:avLst/>
            </a:prstGeom>
            <a:gradFill rotWithShape="0">
              <a:gsLst>
                <a:gs pos="0">
                  <a:srgbClr val="007373"/>
                </a:gs>
                <a:gs pos="50000">
                  <a:srgbClr val="009999"/>
                </a:gs>
                <a:gs pos="100000">
                  <a:srgbClr val="0073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9 pm</a:t>
              </a:r>
              <a:r>
                <a:rPr b="0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 becom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48760" y="4221360"/>
              <a:ext cx="2228040" cy="764280"/>
            </a:xfrm>
            <a:prstGeom prst="rect">
              <a:avLst/>
            </a:prstGeom>
            <a:gradFill rotWithShape="0">
              <a:gsLst>
                <a:gs pos="0">
                  <a:srgbClr val="007373"/>
                </a:gs>
                <a:gs pos="50000">
                  <a:srgbClr val="009999"/>
                </a:gs>
                <a:gs pos="100000">
                  <a:srgbClr val="0073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11 pm</a:t>
              </a:r>
              <a:r>
                <a:rPr b="0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 becom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5240" y="4945320"/>
              <a:ext cx="2864520" cy="429120"/>
            </a:xfrm>
            <a:prstGeom prst="rect">
              <a:avLst/>
            </a:prstGeom>
            <a:gradFill rotWithShape="0">
              <a:gsLst>
                <a:gs pos="0">
                  <a:srgbClr val="007373"/>
                </a:gs>
                <a:gs pos="50000">
                  <a:srgbClr val="009999"/>
                </a:gs>
                <a:gs pos="100000">
                  <a:srgbClr val="0073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5:30 pm</a:t>
              </a:r>
              <a:r>
                <a:rPr b="0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 becom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13200" y="4983120"/>
              <a:ext cx="2924280" cy="429120"/>
            </a:xfrm>
            <a:prstGeom prst="rect">
              <a:avLst/>
            </a:prstGeom>
            <a:gradFill rotWithShape="0">
              <a:gsLst>
                <a:gs pos="0">
                  <a:srgbClr val="007373"/>
                </a:gs>
                <a:gs pos="50000">
                  <a:srgbClr val="009999"/>
                </a:gs>
                <a:gs pos="100000">
                  <a:srgbClr val="0073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10:30 pm</a:t>
              </a:r>
              <a:r>
                <a:rPr b="0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 becom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4760" y="5726160"/>
              <a:ext cx="2864520" cy="429120"/>
            </a:xfrm>
            <a:prstGeom prst="rect">
              <a:avLst/>
            </a:prstGeom>
            <a:gradFill rotWithShape="0">
              <a:gsLst>
                <a:gs pos="0">
                  <a:srgbClr val="007373"/>
                </a:gs>
                <a:gs pos="50000">
                  <a:srgbClr val="009999"/>
                </a:gs>
                <a:gs pos="100000">
                  <a:srgbClr val="0073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3:40 pm</a:t>
              </a:r>
              <a:r>
                <a:rPr b="0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 becom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32360" y="5764320"/>
              <a:ext cx="2924280" cy="429120"/>
            </a:xfrm>
            <a:prstGeom prst="rect">
              <a:avLst/>
            </a:prstGeom>
            <a:gradFill rotWithShape="0">
              <a:gsLst>
                <a:gs pos="0">
                  <a:srgbClr val="007373"/>
                </a:gs>
                <a:gs pos="50000">
                  <a:srgbClr val="009999"/>
                </a:gs>
                <a:gs pos="100000">
                  <a:srgbClr val="0073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1:10 pm</a:t>
              </a:r>
              <a:r>
                <a:rPr b="0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 becom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48080" y="5740560"/>
            <a:ext cx="100152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15 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81560" y="4976640"/>
            <a:ext cx="104436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17 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95960" y="4280040"/>
            <a:ext cx="100008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21 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837560" y="4251240"/>
            <a:ext cx="101592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23 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705800" y="4991040"/>
            <a:ext cx="101592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22 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92920" y="5761080"/>
            <a:ext cx="100188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13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0091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0091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0" y="5832360"/>
            <a:ext cx="1081080" cy="1027440"/>
            <a:chOff x="0" y="5832360"/>
            <a:chExt cx="1081080" cy="1027440"/>
          </a:xfrm>
        </p:grpSpPr>
        <p:sp>
          <p:nvSpPr>
            <p:cNvPr id="200" name=""/>
            <p:cNvSpPr/>
            <p:nvPr/>
          </p:nvSpPr>
          <p:spPr>
            <a:xfrm>
              <a:off x="0" y="5832360"/>
              <a:ext cx="1081080" cy="1009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4600" y="6552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9680" y="609228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3200" y="6552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2800" y="638028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6320" y="638028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9236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rt from am/pm to 24 hours and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200" y="1700280"/>
            <a:ext cx="87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go from 12 hour clock to 24 hour clock just add 12 to the pm hou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276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2.3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40000" y="2276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03640" y="2276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6.3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51640" y="2276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72360" y="476280"/>
            <a:ext cx="2376360" cy="863640"/>
          </a:xfrm>
          <a:prstGeom prst="cloudCallout">
            <a:avLst>
              <a:gd name="adj1" fmla="val -80726"/>
              <a:gd name="adj2" fmla="val 156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12 to the pm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16720" y="1628640"/>
            <a:ext cx="2843280" cy="935280"/>
          </a:xfrm>
          <a:prstGeom prst="cloudCallout">
            <a:avLst>
              <a:gd name="adj1" fmla="val -51509"/>
              <a:gd name="adj2" fmla="val 323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‘am’ or ‘pm’ in the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852640"/>
            <a:ext cx="17636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15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45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3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76720" y="2708280"/>
            <a:ext cx="17636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15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11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45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)  9.3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2781360"/>
            <a:ext cx="1764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1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55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)  10.05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80360" y="2781360"/>
            <a:ext cx="17636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)  10.05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0 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35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)   9. 45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87280" y="2852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364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8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4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58920" y="530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8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6165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27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80000" y="364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3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44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1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530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2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16720" y="270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43640" y="3500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27640" y="4365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88000" y="5157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43640" y="602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783640" y="270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783640" y="357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783640" y="44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783640" y="522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195640" y="6093000"/>
            <a:ext cx="1081080" cy="1027080"/>
            <a:chOff x="2195640" y="6093000"/>
            <a:chExt cx="1081080" cy="1027080"/>
          </a:xfrm>
        </p:grpSpPr>
        <p:sp>
          <p:nvSpPr>
            <p:cNvPr id="243" name=""/>
            <p:cNvSpPr/>
            <p:nvPr/>
          </p:nvSpPr>
          <p:spPr>
            <a:xfrm>
              <a:off x="2195640" y="6093000"/>
              <a:ext cx="1081080" cy="100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70240" y="681300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05320" y="635292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68840" y="681300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8440" y="664092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21960" y="664092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5"/>
          <p:cNvSpPr/>
          <p:nvPr/>
        </p:nvSpPr>
        <p:spPr>
          <a:xfrm>
            <a:off x="573480" y="351000"/>
            <a:ext cx="2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  <a:ea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0" y="412920"/>
            <a:ext cx="8800920" cy="3089160"/>
            <a:chOff x="0" y="412920"/>
            <a:chExt cx="8800920" cy="3089160"/>
          </a:xfrm>
        </p:grpSpPr>
        <p:sp>
          <p:nvSpPr>
            <p:cNvPr id="251" name=""/>
            <p:cNvSpPr/>
            <p:nvPr/>
          </p:nvSpPr>
          <p:spPr>
            <a:xfrm>
              <a:off x="8076960" y="291960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23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53000" y="291960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22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48480" y="291960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21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62680" y="2919600"/>
              <a:ext cx="68580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2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95600" y="2919600"/>
              <a:ext cx="66708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9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91080" y="291960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8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09880" y="2919600"/>
              <a:ext cx="78120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7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05000" y="2919600"/>
              <a:ext cx="70488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6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2880" y="2919600"/>
              <a:ext cx="76212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5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81120" y="2919600"/>
              <a:ext cx="76176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4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52200" y="2919600"/>
              <a:ext cx="62892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3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2919600"/>
              <a:ext cx="95220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2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076960" y="233712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1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53000" y="233712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0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48480" y="233712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9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62680" y="2337120"/>
              <a:ext cx="6858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8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95600" y="2337120"/>
              <a:ext cx="66708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7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91080" y="233712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6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09880" y="2337120"/>
              <a:ext cx="7812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5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05000" y="2337120"/>
              <a:ext cx="70488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4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42880" y="2337120"/>
              <a:ext cx="7621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3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81120" y="2337120"/>
              <a:ext cx="7617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2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52200" y="2337120"/>
              <a:ext cx="6289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2337120"/>
              <a:ext cx="9522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midda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76960" y="1754280"/>
              <a:ext cx="72396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1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53000" y="1754280"/>
              <a:ext cx="72396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48480" y="1754280"/>
              <a:ext cx="70452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9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62680" y="1754280"/>
              <a:ext cx="68580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8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95600" y="1754280"/>
              <a:ext cx="66708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7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91080" y="1754280"/>
              <a:ext cx="70452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6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09880" y="1754280"/>
              <a:ext cx="78120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5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05000" y="1754280"/>
              <a:ext cx="70488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4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42880" y="1754280"/>
              <a:ext cx="76212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3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81120" y="1754280"/>
              <a:ext cx="76176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2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52200" y="1754280"/>
              <a:ext cx="62892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1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1754280"/>
              <a:ext cx="95220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076960" y="117180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1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53000" y="117180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0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48480" y="117180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9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62680" y="1171800"/>
              <a:ext cx="6858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8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95600" y="1171800"/>
              <a:ext cx="66708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7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91080" y="117180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6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09880" y="1171800"/>
              <a:ext cx="7812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5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05000" y="1171800"/>
              <a:ext cx="70488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4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42880" y="1171800"/>
              <a:ext cx="7621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3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81120" y="1171800"/>
              <a:ext cx="7617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2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52200" y="1171800"/>
              <a:ext cx="6289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1171800"/>
              <a:ext cx="9522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Comic Sans MS"/>
                </a:rPr>
                <a:t>midn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1171800"/>
              <a:ext cx="8800920" cy="0"/>
            </a:xfrm>
            <a:prstGeom prst="line">
              <a:avLst/>
            </a:prstGeom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3502080"/>
              <a:ext cx="8800920" cy="0"/>
            </a:xfrm>
            <a:prstGeom prst="line">
              <a:avLst/>
            </a:prstGeom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1171800"/>
              <a:ext cx="0" cy="2330280"/>
            </a:xfrm>
            <a:prstGeom prst="line">
              <a:avLst/>
            </a:prstGeom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52200" y="117180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81120" y="117180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42880" y="117180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05000" y="117180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09880" y="117180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91080" y="117180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95600" y="117180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62680" y="117180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48480" y="117180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53000" y="117180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76960" y="117180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800920" y="1171800"/>
              <a:ext cx="0" cy="2330280"/>
            </a:xfrm>
            <a:prstGeom prst="line">
              <a:avLst/>
            </a:prstGeom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0" y="1754280"/>
              <a:ext cx="88009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2337120"/>
              <a:ext cx="88009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2919600"/>
              <a:ext cx="88009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14400" y="412920"/>
              <a:ext cx="3657600" cy="45972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12/24 Hour Cl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81440" y="5813280"/>
            <a:ext cx="142236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Comic Sans MS"/>
                <a:ea typeface="Arial"/>
              </a:rPr>
              <a:t>11 17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17880" y="5021280"/>
            <a:ext cx="133488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Comic Sans MS"/>
                <a:ea typeface="Arial"/>
              </a:rPr>
              <a:t>3 3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05440" y="4308480"/>
            <a:ext cx="117468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Comic Sans MS"/>
                <a:ea typeface="Arial"/>
              </a:rPr>
              <a:t>6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648560" y="4251240"/>
            <a:ext cx="119052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Comic Sans MS"/>
                <a:ea typeface="Arial"/>
              </a:rPr>
              <a:t>1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402680" y="5049720"/>
            <a:ext cx="143640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Comic Sans MS"/>
                <a:ea typeface="Arial"/>
              </a:rPr>
              <a:t>2 09 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473960" y="5832360"/>
            <a:ext cx="124776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Comic Sans MS"/>
                <a:ea typeface="Arial"/>
              </a:rPr>
              <a:t>4 50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3557520"/>
            <a:ext cx="8763120" cy="703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  <a:ea typeface="Arial"/>
              </a:rPr>
              <a:t>To go from </a:t>
            </a:r>
            <a:r>
              <a:rPr b="0" lang="en-US" sz="2000" spc="-1" strike="noStrike">
                <a:solidFill>
                  <a:srgbClr val="080808"/>
                </a:solidFill>
                <a:latin typeface="Comic Sans MS"/>
                <a:ea typeface="Arial"/>
              </a:rPr>
              <a:t>24 hour</a:t>
            </a:r>
            <a:r>
              <a:rPr b="0" lang="en-US" sz="2000" spc="-1" strike="noStrike">
                <a:solidFill>
                  <a:srgbClr val="ffffcc"/>
                </a:solidFill>
                <a:latin typeface="Comic Sans MS"/>
                <a:ea typeface="Arial"/>
              </a:rPr>
              <a:t> clock to 12 hour clock just </a:t>
            </a:r>
            <a:r>
              <a:rPr b="1" lang="en-US" sz="2000" spc="-1" strike="noStrike" u="sng">
                <a:solidFill>
                  <a:srgbClr val="080808"/>
                </a:solidFill>
                <a:uFillTx/>
                <a:latin typeface="Comic Sans MS"/>
                <a:ea typeface="Arial"/>
              </a:rPr>
              <a:t>subtract</a:t>
            </a:r>
            <a:r>
              <a:rPr b="0" lang="en-US" sz="2000" spc="-1" strike="noStrike">
                <a:solidFill>
                  <a:srgbClr val="080808"/>
                </a:solidFill>
                <a:latin typeface="Comic Sans MS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cc"/>
                </a:solidFill>
                <a:latin typeface="Comic Sans MS"/>
                <a:ea typeface="Arial"/>
              </a:rPr>
              <a:t>12 from the hours if it is greater than 1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8440" y="42512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0091"/>
                </a:solidFill>
                <a:latin typeface="Comic Sans MS"/>
                <a:ea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933560" y="4308480"/>
            <a:ext cx="2251080" cy="429120"/>
          </a:xfrm>
          <a:prstGeom prst="rect">
            <a:avLst/>
          </a:prstGeom>
          <a:gradFill rotWithShape="0">
            <a:gsLst>
              <a:gs pos="0">
                <a:srgbClr val="007373"/>
              </a:gs>
              <a:gs pos="50000">
                <a:srgbClr val="009999"/>
              </a:gs>
              <a:gs pos="100000">
                <a:srgbClr val="007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18 00</a:t>
            </a:r>
            <a:r>
              <a:rPr b="0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 bec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65800" y="4289400"/>
            <a:ext cx="2308320" cy="429120"/>
          </a:xfrm>
          <a:prstGeom prst="rect">
            <a:avLst/>
          </a:prstGeom>
          <a:gradFill rotWithShape="0">
            <a:gsLst>
              <a:gs pos="0">
                <a:srgbClr val="007373"/>
              </a:gs>
              <a:gs pos="50000">
                <a:srgbClr val="009999"/>
              </a:gs>
              <a:gs pos="100000">
                <a:srgbClr val="007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13 00</a:t>
            </a:r>
            <a:r>
              <a:rPr b="0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 bec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5680" y="5013360"/>
            <a:ext cx="2743200" cy="429120"/>
          </a:xfrm>
          <a:prstGeom prst="rect">
            <a:avLst/>
          </a:prstGeom>
          <a:gradFill rotWithShape="0">
            <a:gsLst>
              <a:gs pos="0">
                <a:srgbClr val="007373"/>
              </a:gs>
              <a:gs pos="50000">
                <a:srgbClr val="009999"/>
              </a:gs>
              <a:gs pos="100000">
                <a:srgbClr val="007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15 30</a:t>
            </a:r>
            <a:r>
              <a:rPr b="0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 bec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80000" y="5032440"/>
            <a:ext cx="2800440" cy="429120"/>
          </a:xfrm>
          <a:prstGeom prst="rect">
            <a:avLst/>
          </a:prstGeom>
          <a:gradFill rotWithShape="0">
            <a:gsLst>
              <a:gs pos="0">
                <a:srgbClr val="007373"/>
              </a:gs>
              <a:gs pos="50000">
                <a:srgbClr val="009999"/>
              </a:gs>
              <a:gs pos="100000">
                <a:srgbClr val="007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02 09 </a:t>
            </a:r>
            <a:r>
              <a:rPr b="0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 bec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9360" y="5794200"/>
            <a:ext cx="2743200" cy="429120"/>
          </a:xfrm>
          <a:prstGeom prst="rect">
            <a:avLst/>
          </a:prstGeom>
          <a:gradFill rotWithShape="0">
            <a:gsLst>
              <a:gs pos="0">
                <a:srgbClr val="007373"/>
              </a:gs>
              <a:gs pos="50000">
                <a:srgbClr val="009999"/>
              </a:gs>
              <a:gs pos="100000">
                <a:srgbClr val="007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23 17 </a:t>
            </a:r>
            <a:r>
              <a:rPr b="0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 bec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80000" y="5832360"/>
            <a:ext cx="2800440" cy="429120"/>
          </a:xfrm>
          <a:prstGeom prst="rect">
            <a:avLst/>
          </a:prstGeom>
          <a:gradFill rotWithShape="0">
            <a:gsLst>
              <a:gs pos="0">
                <a:srgbClr val="007373"/>
              </a:gs>
              <a:gs pos="50000">
                <a:srgbClr val="009999"/>
              </a:gs>
              <a:gs pos="100000">
                <a:srgbClr val="007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16 50 </a:t>
            </a:r>
            <a:r>
              <a:rPr b="0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 bec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0091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0091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0" y="5832360"/>
            <a:ext cx="1081080" cy="1027440"/>
            <a:chOff x="0" y="5832360"/>
            <a:chExt cx="1081080" cy="1027440"/>
          </a:xfrm>
        </p:grpSpPr>
        <p:sp>
          <p:nvSpPr>
            <p:cNvPr id="335" name=""/>
            <p:cNvSpPr/>
            <p:nvPr/>
          </p:nvSpPr>
          <p:spPr>
            <a:xfrm>
              <a:off x="0" y="5832360"/>
              <a:ext cx="1081080" cy="1009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4600" y="6552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9680" y="609228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3200" y="6552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2800" y="638028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6320" y="638028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9236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rt from am/pm to 24 hours and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9200" y="1700280"/>
            <a:ext cx="87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go from 12 hour clock to 24 hour clock just add 12 to the pm hou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227664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03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50920" y="22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15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03640" y="2276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364000" y="22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 1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372360" y="476280"/>
            <a:ext cx="2592360" cy="1008000"/>
          </a:xfrm>
          <a:prstGeom prst="cloudCallout">
            <a:avLst>
              <a:gd name="adj1" fmla="val -78171"/>
              <a:gd name="adj2" fmla="val 127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time after </a:t>
            </a:r>
            <a:r>
              <a:rPr b="1" lang="en-US" sz="1800" spc="-1" strike="noStrike">
                <a:solidFill>
                  <a:srgbClr val="5b0091"/>
                </a:solidFill>
                <a:latin typeface="Arial"/>
              </a:rPr>
              <a:t>1200</a:t>
            </a:r>
            <a:r>
              <a:rPr b="0" lang="en-US" sz="1800" spc="-1" strike="noStrike">
                <a:solidFill>
                  <a:srgbClr val="5b009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pm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16720" y="1557360"/>
            <a:ext cx="2843280" cy="1152360"/>
          </a:xfrm>
          <a:prstGeom prst="cloudCallout">
            <a:avLst>
              <a:gd name="adj1" fmla="val -51509"/>
              <a:gd name="adj2" fmla="val 230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’ or ‘pm’ </a:t>
            </a:r>
            <a:r>
              <a:rPr b="1" lang="en-US" sz="1800" spc="-1" strike="noStrike">
                <a:solidFill>
                  <a:srgbClr val="5b0091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in the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2852640"/>
            <a:ext cx="11160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076720" y="2708280"/>
            <a:ext cx="12956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)  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11280" y="2781360"/>
            <a:ext cx="1224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5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)   0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380360" y="2781360"/>
            <a:ext cx="115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)  09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)   06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42920" y="2852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 3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87280" y="3645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 05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16000" y="4508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 4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42920" y="530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 45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16000" y="609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 05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64000" y="278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d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92360" y="357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 45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92360" y="4437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1 15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92360" y="5229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2 2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12000" y="270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 2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 3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8472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 4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56360" y="51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 35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56360" y="5950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 2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17080" y="2708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 25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3573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 25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17080" y="4437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 55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317080" y="5229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 35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627280" y="6021360"/>
            <a:ext cx="1081080" cy="1027440"/>
            <a:chOff x="2627280" y="6021360"/>
            <a:chExt cx="1081080" cy="1027440"/>
          </a:xfrm>
        </p:grpSpPr>
        <p:sp>
          <p:nvSpPr>
            <p:cNvPr id="378" name=""/>
            <p:cNvSpPr/>
            <p:nvPr/>
          </p:nvSpPr>
          <p:spPr>
            <a:xfrm>
              <a:off x="2627280" y="6021360"/>
              <a:ext cx="1081080" cy="1009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01880" y="6741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36960" y="628128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00480" y="6741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890080" y="656928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53600" y="656928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9236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rt from am/pm to 24 hours and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What_do_you_see_19.jpg"/>
          <p:cNvPicPr/>
          <p:nvPr/>
        </p:nvPicPr>
        <p:blipFill>
          <a:blip r:embed="rId2"/>
          <a:stretch/>
        </p:blipFill>
        <p:spPr>
          <a:xfrm>
            <a:off x="2451240" y="1811160"/>
            <a:ext cx="5145120" cy="4631040"/>
          </a:xfrm>
          <a:prstGeom prst="rect">
            <a:avLst/>
          </a:prstGeom>
          <a:ln w="76320">
            <a:solidFill>
              <a:srgbClr val="7f7f7f"/>
            </a:solidFill>
            <a:miter/>
          </a:ln>
        </p:spPr>
      </p:pic>
      <p:sp>
        <p:nvSpPr>
          <p:cNvPr id="392" name=""/>
          <p:cNvSpPr/>
          <p:nvPr/>
        </p:nvSpPr>
        <p:spPr>
          <a:xfrm>
            <a:off x="250920" y="2349360"/>
            <a:ext cx="165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0091"/>
                </a:solidFill>
                <a:latin typeface="Arial"/>
              </a:rPr>
              <a:t>What do you se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6:15:20Z</dcterms:created>
  <dc:creator>teacher</dc:creator>
  <dc:description/>
  <dc:language>en-US</dc:language>
  <cp:lastModifiedBy>Caroline</cp:lastModifiedBy>
  <dcterms:modified xsi:type="dcterms:W3CDTF">2009-01-05T21:31:13Z</dcterms:modified>
  <cp:revision>9</cp:revision>
  <dc:subject/>
  <dc:title>Slide 1</dc:title>
</cp:coreProperties>
</file>